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684-F73E-4886-AF0A-BCEE6AE7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BF8-30EC-4F2D-99FB-DFDB25E2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CF4-97C7-4F80-B0CD-69E374B6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B65-F229-4904-AC33-E90F8918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EC1F-AD0C-4C69-9F47-4C4059CF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2B71-AFDD-43AC-A053-D73CD2A0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858F-8B18-4D76-8BC8-80B5DDE5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986B-91C4-4C38-8719-B5CAFDB3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D3FB-ADAD-4F84-A4C3-4A46372E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0520" y="151920"/>
            <a:ext cx="717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2F68-B164-44EB-A47A-7CF54746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83E4-E5EA-4333-8EA2-1DFE061D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20D-01FF-47B4-8825-FDDC868E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BF8E-DBD1-4789-B96C-86F1E75B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05DD-B92D-464A-BF2C-8E8609A1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6C26-0DE9-4BE3-BDC0-7539BEAC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93E8-9B25-423B-9A89-416FB879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503D-D288-46E6-BDA5-EA1FB305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A2C-DFBF-419E-8197-4528ABAD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BBB-B208-4AE7-82AC-C8F77BFA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D63-D79F-48ED-BB1B-6AB122E4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0520" y="151920"/>
            <a:ext cx="717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2BC-A0A2-49C9-B5A7-91093A35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1AD-9B7A-4E3E-B578-726209C4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505-2DA5-4713-AA88-DD8BA702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289-987D-4B5B-869E-97EBCC2C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AB61-308B-4854-9E49-0411DF692FB0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876920"/>
            <a:ext cx="75438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6B91-4C3E-4604-A60F-ED1C79F05CCF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4876920"/>
            <a:ext cx="75438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5866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7:21:30Z</dcterms:created>
  <dc:creator>jeanne butcher</dc:creator>
  <dc:description/>
  <cp:keywords/>
  <dc:language>en-US</dc:language>
  <cp:lastModifiedBy>jeanne butcher</cp:lastModifiedBy>
  <dcterms:modified xsi:type="dcterms:W3CDTF">2007-07-15T20:40:3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31033</vt:lpwstr>
  </property>
</Properties>
</file>